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68D24-3BCA-4C67-BC5E-8DB2FF813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7562C-BCDB-4C77-8A8E-1D133394C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051DC-148C-4E2B-B673-2BF418450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3DD99-C2A8-428B-AB7F-9BD2BBC06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82EC96-14E8-4B96-855C-D57497D08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CF8CD-E691-4A35-AE30-25E5EE439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D8F21-AE83-44EB-9C83-90F9B8334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B9987-4006-498D-937F-943E927B6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DA4FC-5AD3-4B86-BB4B-B53C034B8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1797C-A21B-43BC-AFD7-F01D81D25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FFA29-BAB7-4A88-8B87-2C0AF8F3D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ECD6D-BF21-426B-B0AE-4DBAAFDBF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F9E89-DFB6-4B91-9DD3-5E0705AD4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F475C-D048-422A-88C7-3FE68384A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F9897-6E2D-4CAA-8F31-807F0FA45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27AADD-793E-45C3-863D-581442F32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22857-A952-4BB7-B8B3-D4E9393CE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1FC3E-E4FF-4273-B2F5-D20798AA0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3FB6D-9B0F-4B0B-BC2C-67578C503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D01D0-B8FB-4B7F-9C64-33264CC22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ADC25-C59B-4F16-B4AF-C631AF5A8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44C89-657F-42EA-AE85-42260FED0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E345D-8F51-4838-8F88-C103ED8C2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85A2B-3BF7-4962-8A0D-351FC093F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53E8-9E88-4871-90C2-C34EEA698BA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6960-96C6-4430-B9EE-6D144927721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wikispaces.com/"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2147760"/>
            <a:ext cx="7086600" cy="1113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apFLP Listening/Speaking</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y 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personal Speaking</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ional Standards</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y Questions?</a:t>
            </a: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dividual brainstorm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brief, discuss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ining students to questio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Pair/Sh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estion Practice</a:t>
            </a:r>
            <a:endParaRPr b="1" lang="en-US" sz="44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 3 questions about listening or speaking activities (fact or opin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Mingle to music”</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time the music stops, find a different partner and ask one of your questions.</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brie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otie Catchers</a:t>
            </a:r>
            <a:endParaRPr b="1" lang="en-US" sz="4400" spc="-1" strike="noStrike">
              <a:solidFill>
                <a:srgbClr val="eaeaea"/>
              </a:solidFill>
              <a:latin typeface="Tahoma"/>
            </a:endParaRPr>
          </a:p>
        </p:txBody>
      </p:sp>
      <p:sp>
        <p:nvSpPr>
          <p:cNvPr id="132" name="PlaceHolder 2"/>
          <p:cNvSpPr>
            <a:spLocks noGrp="1"/>
          </p:cNvSpPr>
          <p:nvPr>
            <p:ph/>
          </p:nvPr>
        </p:nvSpPr>
        <p:spPr>
          <a:xfrm>
            <a:off x="1142640" y="1981080"/>
            <a:ext cx="8001000" cy="46483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rt with a square sheet of paper</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591120" indent="-591120">
              <a:lnSpc>
                <a:spcPct val="8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ld the four corners towards the center</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591120" indent="-591120">
              <a:lnSpc>
                <a:spcPct val="8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lip over the folded paper. Draw lines on paper to show horizontal, vertical and diagonal axes </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591120" indent="-591120">
              <a:lnSpc>
                <a:spcPct val="8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th folded paper still flipped over, fold corners towards center.</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591120" indent="-591120">
              <a:lnSpc>
                <a:spcPct val="8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w, you have one side with triangles and one with squares. Looking at the side with the triangles, fold in half once each way. Continue to unfold and refold and “bend” (makes paper flexib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ow for the activity …</a:t>
            </a:r>
            <a:endParaRPr b="1" lang="en-US" sz="4400" spc="-1" strike="noStrike">
              <a:solidFill>
                <a:srgbClr val="eaeaea"/>
              </a:solidFill>
              <a:latin typeface="Tahoma"/>
            </a:endParaRPr>
          </a:p>
        </p:txBody>
      </p:sp>
      <p:sp>
        <p:nvSpPr>
          <p:cNvPr id="134" name="PlaceHolder 2"/>
          <p:cNvSpPr>
            <a:spLocks noGrp="1"/>
          </p:cNvSpPr>
          <p:nvPr>
            <p:ph/>
          </p:nvPr>
        </p:nvSpPr>
        <p:spPr>
          <a:xfrm>
            <a:off x="1371600" y="1905120"/>
            <a:ext cx="7391520" cy="495288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each square, write a different color.</a:t>
            </a:r>
            <a:endParaRPr b="0" lang="en-US" sz="2800" spc="-1" strike="noStrike">
              <a:solidFill>
                <a:srgbClr val="ffffff"/>
              </a:solidFill>
              <a:latin typeface="Tahoma"/>
            </a:endParaRPr>
          </a:p>
          <a:p>
            <a:pPr marL="603360" indent="-60336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ip over the paper and on each half triangle, write the name of a different animal (8 total)</a:t>
            </a:r>
            <a:endParaRPr b="0" lang="en-US" sz="2800" spc="-1" strike="noStrike">
              <a:solidFill>
                <a:srgbClr val="ffffff"/>
              </a:solidFill>
              <a:latin typeface="Tahoma"/>
            </a:endParaRPr>
          </a:p>
          <a:p>
            <a:pPr marL="603360" indent="-60336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n the triangles and in each designated space, write a different question (8 total).</a:t>
            </a:r>
            <a:endParaRPr b="0" lang="en-US" sz="2800" spc="-1" strike="noStrike">
              <a:solidFill>
                <a:srgbClr val="ffffff"/>
              </a:solidFill>
              <a:latin typeface="Tahoma"/>
            </a:endParaRPr>
          </a:p>
          <a:p>
            <a:pPr marL="603360" indent="-60336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ner outer circles: take turns using cootie catchers  to select question to be asked. </a:t>
            </a:r>
            <a:endParaRPr b="0" lang="en-US" sz="2800" spc="-1" strike="noStrike">
              <a:solidFill>
                <a:srgbClr val="ffffff"/>
              </a:solidFill>
              <a:latin typeface="Tahoma"/>
            </a:endParaRPr>
          </a:p>
          <a:p>
            <a:pPr marL="603360" indent="-60336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asking, outer circle shifts one step clockwise. Continue shifting…</a:t>
            </a:r>
            <a:endParaRPr b="0" lang="en-US" sz="2800" spc="-1" strike="noStrike">
              <a:solidFill>
                <a:srgbClr val="ffffff"/>
              </a:solidFill>
              <a:latin typeface="Tahoma"/>
            </a:endParaRPr>
          </a:p>
          <a:p>
            <a:pPr marL="603360" indent="-60336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witch sides.</a:t>
            </a:r>
            <a:endParaRPr b="0" lang="en-US" sz="2800" spc="-1" strike="noStrike">
              <a:solidFill>
                <a:srgbClr val="ffffff"/>
              </a:solidFill>
              <a:latin typeface="Tahoma"/>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brief Cootie Catchers</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riations on prompts for the “squares” and the “triangles”</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ities for all levels with cootie catcher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ndout</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cipant thoughts/ques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ata Questioning (Survey)</a:t>
            </a: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ive: gather information from one or many people</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lligences: Bodily-Kinesthetic, Visual-Spatial, Mathematical-Logical, Interpersonal</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ose a “topic” card and create a chart to record answers to the question</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rculate, interviewing maximum number of people possible. Record answ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ata analysis &amp; reporting</a:t>
            </a: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kills to teach/review: percentage calculation, construct pie chart (or bar graph, etc.)</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culate percentage responses to your question</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pie chart to illustrate the varied response groups</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ort findings to grou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uman Bingo: preparation</a:t>
            </a: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id prepared by teacher (option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ndom elemen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ments prepared by students (Day 1) and transferred by teacher to grid (Day 2)</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le varia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 each person to 1 signatur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eated signatures allow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uman Bingo: activity</a:t>
            </a: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rculate with grid, asking questions</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partner responds affirmatively, they may sign the box. If negatively, ask another question.</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person may sign up to 2 times on your paper</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person to complete all boxes wi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ay 3 Objectives</a:t>
            </a:r>
            <a:endParaRPr b="1" lang="en-US" sz="44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results from homework</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awareness of the stages of oral production in the Language Learning Continuum</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cipate in various interpersonal and presentational communication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uman Bingo: extensions</a:t>
            </a: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initial mixer, students “report” information they have learn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Betty plays golf on Sunday”</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student who has “Betty’s” signature anywhere on their paper, gets to cross that box off</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until someone has “Bing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UNCH!</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esentational Speaking</a:t>
            </a:r>
            <a:endParaRPr b="1" lang="en-US" sz="44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ional Standard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ster Session</a:t>
            </a:r>
            <a:endParaRPr b="1" lang="en-US" sz="4400" spc="-1" strike="noStrike">
              <a:solidFill>
                <a:srgbClr val="eaeaea"/>
              </a:solidFill>
              <a:latin typeface="Tahoma"/>
            </a:endParaRPr>
          </a:p>
        </p:txBody>
      </p:sp>
      <p:sp>
        <p:nvSpPr>
          <p:cNvPr id="151" name="PlaceHolder 2"/>
          <p:cNvSpPr>
            <a:spLocks noGrp="1"/>
          </p:cNvSpPr>
          <p:nvPr>
            <p:ph/>
          </p:nvPr>
        </p:nvSpPr>
        <p:spPr>
          <a:xfrm>
            <a:off x="1143000" y="1904760"/>
            <a:ext cx="7696080" cy="472428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oose a topic from the hat</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 with your partner to prepare a two-minute presentation of that topic</a:t>
            </a:r>
            <a:endParaRPr b="0" lang="en-US" sz="3200" spc="-1" strike="noStrike">
              <a:solidFill>
                <a:srgbClr val="ffffff"/>
              </a:solidFill>
              <a:latin typeface="Tahoma"/>
            </a:endParaRPr>
          </a:p>
          <a:p>
            <a:pPr lvl="1" marL="735480" indent="-282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include a poster with both text and graphics to assist the speaker and to inform the audience</a:t>
            </a:r>
            <a:endParaRPr b="0" lang="en-US" sz="28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end the “conference”: one partner visits the sessions, the other presents. Then switc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brief</a:t>
            </a:r>
            <a:endParaRPr b="1" lang="en-US" sz="4400" spc="-1" strike="noStrike">
              <a:solidFill>
                <a:srgbClr val="eaeaea"/>
              </a:solidFill>
              <a:latin typeface="Tahoma"/>
            </a:endParaRPr>
          </a:p>
        </p:txBody>
      </p:sp>
      <p:sp>
        <p:nvSpPr>
          <p:cNvPr id="1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a “poster session”?</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id it feel to “visit the conference”?</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id it feel to be a presen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t>
            </a:r>
            <a:r>
              <a:rPr b="1" lang="en-US" sz="4400" spc="-1" strike="noStrike">
                <a:solidFill>
                  <a:srgbClr val="eaeaea"/>
                </a:solidFill>
                <a:latin typeface="Tahoma"/>
              </a:rPr>
              <a:t>How to…” activities</a:t>
            </a: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jective: to tell classmates how to do something – not showing</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aft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king</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ild or assemble an object</a:t>
            </a:r>
            <a:endParaRPr b="0" lang="en-US" sz="28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lligences: Bodily-Kinesthetic, Verbal-Linguistic, Visual-Spatial, Mathematical-Logical, Interpersonal</a:t>
            </a:r>
            <a:endParaRPr b="0" lang="en-US" sz="32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ystery Drawing</a:t>
            </a:r>
            <a:endParaRPr b="1" lang="en-US" sz="4400" spc="-1" strike="noStrike">
              <a:solidFill>
                <a:srgbClr val="eaeaea"/>
              </a:solidFill>
              <a:latin typeface="Tahoma"/>
            </a:endParaRPr>
          </a:p>
        </p:txBody>
      </p:sp>
      <p:sp>
        <p:nvSpPr>
          <p:cNvPr id="1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step-by-step instructions to draw an image without telling the resul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erial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ph paper (with center point mark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cils</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nstr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ystery Drawing: practice</a:t>
            </a:r>
            <a:endParaRPr b="1" lang="en-US" sz="4400" spc="-1" strike="noStrike">
              <a:solidFill>
                <a:srgbClr val="eaeaea"/>
              </a:solidFill>
              <a:latin typeface="Tahoma"/>
            </a:endParaRPr>
          </a:p>
        </p:txBody>
      </p:sp>
      <p:sp>
        <p:nvSpPr>
          <p:cNvPr id="1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a partner, chart a simple design on graph paper that you can break into sequential step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 partners and take turns giving instructions to replicate your desig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peaking activities</a:t>
            </a: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brief discussion</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id the teacher prepare students to have success with speaking? (i.e.: into, through, beyond)</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tools were provided to guide students as they spoke?</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was the context for each speaking task? Why did they </a:t>
            </a:r>
            <a:r>
              <a:rPr b="0" lang="en-US" sz="2800" spc="-1" strike="noStrike" u="sng">
                <a:solidFill>
                  <a:srgbClr val="ffffff"/>
                </a:solidFill>
                <a:uFillTx/>
                <a:latin typeface="Tahoma"/>
              </a:rPr>
              <a:t>need</a:t>
            </a:r>
            <a:r>
              <a:rPr b="0" lang="en-US" sz="2800" spc="-1" strike="noStrike">
                <a:solidFill>
                  <a:srgbClr val="ffffff"/>
                </a:solidFill>
                <a:latin typeface="Tahoma"/>
              </a:rPr>
              <a:t> to spea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 Time</a:t>
            </a: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your observations today, </a:t>
            </a:r>
            <a:r>
              <a:rPr b="0" lang="en-US" sz="3200" spc="-1" strike="noStrike" u="sng">
                <a:solidFill>
                  <a:srgbClr val="ffffff"/>
                </a:solidFill>
                <a:uFillTx/>
                <a:latin typeface="Tahoma"/>
              </a:rPr>
              <a:t>design a new speaking activity</a:t>
            </a:r>
            <a:r>
              <a:rPr b="0" lang="en-US" sz="3200" spc="-1" strike="noStrike">
                <a:solidFill>
                  <a:srgbClr val="ffffff"/>
                </a:solidFill>
                <a:latin typeface="Tahoma"/>
              </a:rPr>
              <a:t> aligned to a functional objective for a unit you already teach</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ctivity could become part of your final proje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prepared to discuss your planning ideas and share questions or concer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ave you checked out the Wiki?</a:t>
            </a: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hlinkClick r:id="rId1"/>
              </a:rPr>
              <a:t>www.wikispaces.com</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an account, then search our sit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Capflplisteningspeaking”</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Day 4, post at least one of your activities (listening or spea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flective Writing</a:t>
            </a:r>
            <a:endParaRPr b="1" lang="en-US" sz="4400" spc="-1" strike="noStrike">
              <a:solidFill>
                <a:srgbClr val="eaeaea"/>
              </a:solidFill>
              <a:latin typeface="Tahoma"/>
            </a:endParaRPr>
          </a:p>
        </p:txBody>
      </p:sp>
      <p:sp>
        <p:nvSpPr>
          <p:cNvPr id="1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what you have seen and read today, what are the characteristics of a well-designed speaking activity for student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onsiderations are important in setting the students up for success in spea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omework: Day 3</a:t>
            </a:r>
            <a:endParaRPr b="1" lang="en-US" sz="44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ish the design of a new speaking activity aligned to a functional objective for a unit you already teach. Try this activity in your classroom and be prepared to share the results on Day 4.</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 at least 1 listening or speaking activity you have developed on the Wik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aily Evaluation</a:t>
            </a:r>
            <a:endParaRPr b="1" lang="en-US" sz="4400" spc="-1" strike="noStrike">
              <a:solidFill>
                <a:srgbClr val="eaeaea"/>
              </a:solidFill>
              <a:latin typeface="Tahoma"/>
            </a:endParaRPr>
          </a:p>
        </p:txBody>
      </p:sp>
      <p:sp>
        <p:nvSpPr>
          <p:cNvPr id="1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nk you for your participation today.</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r conscientious feedback will help us meet your needs and refine future training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ll about me…</a:t>
            </a:r>
            <a:endParaRPr b="1" lang="en-US" sz="44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 an index card, please write 3 things that you believe are unique about yourself</a:t>
            </a:r>
            <a:br>
              <a:rPr sz="4000"/>
            </a:br>
            <a:r>
              <a:rPr b="0" lang="en-US" sz="4000" spc="-1" strike="noStrike">
                <a:solidFill>
                  <a:srgbClr val="ffffff"/>
                </a:solidFill>
                <a:latin typeface="Tahoma"/>
              </a:rPr>
              <a:t> </a:t>
            </a:r>
            <a:endParaRPr b="0" lang="en-US" sz="4000" spc="-1" strike="noStrike">
              <a:solidFill>
                <a:srgbClr val="ffffff"/>
              </a:solidFill>
              <a:latin typeface="Tahoma"/>
            </a:endParaRPr>
          </a:p>
          <a:p>
            <a:pPr marL="343080" indent="-343080">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ive card to Christin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omework sharing &amp; reflection</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LC Review</a:t>
            </a: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urn to page 10 of Framework</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Language Learning Continuum as it relates to speaking proficiency</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ture your thoughts about speaking at each stage on the graphic organizer</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brie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udy of Current Research</a:t>
            </a:r>
            <a:endParaRPr b="1" lang="en-US" sz="44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eaching Language in Context</a:t>
            </a:r>
            <a:r>
              <a:rPr b="0" lang="en-US" sz="3200" spc="-1" strike="noStrike">
                <a:solidFill>
                  <a:srgbClr val="ffffff"/>
                </a:solidFill>
                <a:latin typeface="Tahoma"/>
              </a:rPr>
              <a:t>, Chapter 6 “Developing Oral Proficiency” (Omaggio Hadley)</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ing Processes (hybri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igsa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ed Heads Togeth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ading Process</a:t>
            </a:r>
            <a:endParaRPr b="1" lang="en-US" sz="4400" spc="-1" strike="noStrike">
              <a:solidFill>
                <a:srgbClr val="eaeaea"/>
              </a:solidFill>
              <a:latin typeface="Tahoma"/>
            </a:endParaRPr>
          </a:p>
        </p:txBody>
      </p:sp>
      <p:sp>
        <p:nvSpPr>
          <p:cNvPr id="123" name="PlaceHolder 2"/>
          <p:cNvSpPr>
            <a:spLocks noGrp="1"/>
          </p:cNvSpPr>
          <p:nvPr>
            <p:ph/>
          </p:nvPr>
        </p:nvSpPr>
        <p:spPr>
          <a:xfrm>
            <a:off x="1142640" y="1828440"/>
            <a:ext cx="7620120" cy="4800600"/>
          </a:xfrm>
          <a:prstGeom prst="rect">
            <a:avLst/>
          </a:prstGeom>
          <a:noFill/>
          <a:ln w="0">
            <a:noFill/>
          </a:ln>
        </p:spPr>
        <p:txBody>
          <a:bodyPr lIns="90000" rIns="90000" tIns="46800" bIns="46800" anchor="t">
            <a:normAutofit fontScale="98000"/>
          </a:bodyPr>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mber off 1-4</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assigned section silently</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 groups composed of a 1, 2, 3, and 4</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member “teaches” the others about their section (Note: ANYONE can be asked a question about any part of the reading!)</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rehension ques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REAK!</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5T16:19:41Z</dcterms:created>
  <dc:creator>Christine Lanphere</dc:creator>
  <dc:description/>
  <dc:language>en-US</dc:language>
  <cp:lastModifiedBy>Charles Naditz</cp:lastModifiedBy>
  <dcterms:modified xsi:type="dcterms:W3CDTF">2008-03-27T02:36:38Z</dcterms:modified>
  <cp:revision>37</cp:revision>
  <dc:subject/>
  <dc:title>Day 3 Objectives</dc:title>
</cp:coreProperties>
</file>